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8F8-114B-47B9-99D5-E4924FAF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31F7-20C6-43A3-9792-FF882188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222-324F-4BFA-A4A0-55C17009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D7F-B55D-4EAF-B8CD-F192C7D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60C-0A3D-46A4-A128-E4B861B6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568-2559-425F-B798-EABF57E0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B2F-420C-43F0-B992-6CB0BD5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B34-989C-4B27-9318-3B0A1F88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0FE-28D1-4E75-82C6-5DAAC4F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174-8DF0-401C-AE0A-2B1352CC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360-9223-4325-A205-75BE4A7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551-60EB-4301-A0DE-EC7E129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EB4-AB97-402B-A788-E4DDCCEC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515-EA9D-428F-AF0B-6A0FE43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804-60BF-4803-BDE6-3D434D3D58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rntorangereport.com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8: Quantitativ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Guidelin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better than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/closed-ended questions - benefit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and closing preamble and instructions important - especially if you’re not there to 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it before you use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minal (categorical differences; student, staff, facult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dinal (rank order implied; e.g., year of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al (ranks w/ equivalent intervals - e.g., grade point aver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 (intervals amenable to mathematical manipulations; e.g, age in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the right one for the question at han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rt Scale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5, 1-7, 1-9 s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point - what does it mean?  If no opinion, give that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force decisions with even number of options (1-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care in too many consecutive items with same polarity of options - leads to patterned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of related questions measuring attitudes, beliefs, orientation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ultiple intelligences, personality tests (other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es must actually measure what they claim, not be redund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e reliability - consistency in response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y authenticity (esp. in web searches) - many scales are meaningless, published scales generally str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description (55% of respondents are male, 75% under 25 said ye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-tabulation (males answered this, females answered th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(direction and strength of link between two variables - slope and r-valu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ation (inferential tests, confidence of var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Politics - News, Opinion and Analysis from CNN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354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91640" y="548640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www.cnn.com/poli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ss Tab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Election Center 2008_ Primary Exit Polls - Elections &amp; Politics news from CNN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4046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2596680" y="579132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nn.com/ELECTION/2008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es/results/epolls/index.html#W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TXturnout"/>
          <p:cNvPicPr/>
          <p:nvPr/>
        </p:nvPicPr>
        <p:blipFill>
          <a:blip r:embed="rId1"/>
          <a:stretch/>
        </p:blipFill>
        <p:spPr>
          <a:xfrm>
            <a:off x="762120" y="1676520"/>
            <a:ext cx="4895640" cy="466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19920" y="1752480"/>
            <a:ext cx="236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burntorangereport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Diary.do?diaryId=5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causation can be dangerous in previous examp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prove causation from correlation - must tie to logical explanation of correlation (which can itself be debatabl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“mean-world” syndrome - does TV watching cause higher perceived dangers in the world, or do paranoid people seek shelter from the world in their houses and end up watching more TV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. research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network questionnaire - who trusted whom in six do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ed with three scales - interdependence, independence and pr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al study - what relations existed between scales and position in network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ation - not easy to 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ons verified by respondent reflection and person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al redesign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ativ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qualitative, involves 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reduced to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descriptive (e.g., counting) but inferential (e.g., predictive, indication of correl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 for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and data mining – probably not useful given circumstances, although latter might be used to gauge interest in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s – perhaps – depends on nature of population targ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User Interaction issues and scenarios/requirements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specific measurement of phenome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X related to Y (correlation) but X causes Y (causation) - provided overarching theoretical model is correct of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use in desig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and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e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ality can be infer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constrain outside infl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hard to measure and determine causation in complex multivariate phenom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fake tasks in fake contexts - validit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 without being there - quantitative artifacts - e.g., Web access logs, click regions, turnstile count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s consequences of actual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and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based in actual action vs. perception or i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for complete sample – not easily achieved in other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infrastructure set, data collection can be auto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concerns - data could be used for less than noble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ctions might not reflect motivations for why actions are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eys/Questionn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ethod of obtaining information from broad cross-section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of information directly depends on who is surveyed and the quality of questions as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ools help - e.g., http://www.surveymonkey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cluded in samp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y reach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ers vs. non-responders - are they qualitatively different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errors and confidence intervals (or, what +/- 3.5%, 19 times out of 20 mean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sampling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mbigu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is relevant to research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an be easily analy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ed in scope - take respondent’s attention span and willingness to help into accou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38:39Z</dcterms:created>
  <dc:creator/>
  <dc:description/>
  <dc:language>en-US</dc:language>
  <cp:lastModifiedBy>Sheridan College</cp:lastModifiedBy>
  <dcterms:modified xsi:type="dcterms:W3CDTF">2010-03-01T16:59:13Z</dcterms:modified>
  <cp:revision>35</cp:revision>
  <dc:subject/>
  <dc:title>CCT 333: Imagining the Audience in a Wired World</dc:title>
</cp:coreProperties>
</file>